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10C1-35EF-4938-8C9C-B3189201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1E5D-7737-4F4B-B1A1-7C768B70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21B-1C04-4DAE-8D3C-49AF6245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64D7-EFF2-4FF3-8923-5E3E15B7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6F6-C226-4DDF-BA9C-8B12E28B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5170-EE4E-4C99-8854-1D0B19A5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D34D-ACB2-4D75-A816-21BCF3E9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88BF-EF63-48AB-B95C-45B0B74C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753-84AE-48BE-A335-AA88B179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5AE-1DD1-45B4-A6B1-09CC03CD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8F3D-B7DB-46A2-86B2-B2148862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75C-D0B3-4DFE-AE86-0BA08F36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B20B-CD57-41CB-92D0-18A965ACC60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全真中黑體"/>
              </a:rPr>
              <a:t>深深愛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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Deeper In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全真中黑體"/>
              </a:rPr>
              <a:t>深深愛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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Deeper In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全真中黑體"/>
              </a:rPr>
              <a:t>深深愛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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Deeper In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23:13:27Z</dcterms:created>
  <dc:creator> </dc:creator>
  <dc:description/>
  <dc:language>en-US</dc:language>
  <cp:lastModifiedBy> </cp:lastModifiedBy>
  <dcterms:modified xsi:type="dcterms:W3CDTF">2004-06-08T23:14:09Z</dcterms:modified>
  <cp:revision>1</cp:revision>
  <dc:subject/>
  <dc:title>深深愛〈1/3 〉 Deeper In Love</dc:title>
</cp:coreProperties>
</file>